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455D-D1A5-4CE9-9C69-4633CF4DB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AAF3-C31A-4869-8C09-7E9D8926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8B06-E42D-479B-AFCC-98C26DF1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8A61-C1DA-4170-B646-1BF13DB0D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523B-28FC-4D7E-B058-BB4FDC574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BAED-8B92-4C4B-B070-04343123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2C4D-D2D4-4981-9071-E0FEBC46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4499-8FB1-40BD-8678-4EF20E63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0F50-53E5-4BD9-B1C1-75F355FC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43B4-4FA6-4A18-8267-F1074E92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E885-176A-4A3E-82EF-C1A5CE4A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61E2-2EDC-42E0-9220-D46B779B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D01C-E8A5-457B-BA24-04868ED1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E014-05E5-4BED-9FAB-E99BC90D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CC54-FC59-4770-9585-868301BD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1265-F6D8-4655-8C58-35E780290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9B0E-790F-425F-A8BB-FCEDCA703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F1C6-05CC-4BD0-BE06-BFDAB5C1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9550-3326-4328-9237-5FA5F7E7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C58C-08D4-48A0-87AB-C9EFA588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6737-0D3B-4772-961D-D192F85A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AD62-810B-4A81-A15B-54AB8F2D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26CD-AB05-4F3C-9737-9D24A6C6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5BFD-833E-4692-A4CB-133242D9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A18E-CD17-482D-9388-CF5889DE5109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ACA1-C80A-426E-9380-9F88865C6FA2}" type="slidenum">
              <a:rPr b="0" lang="fi-FI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5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5400" spc="-1" strike="noStrike">
                <a:solidFill>
                  <a:srgbClr val="ffffb7"/>
                </a:solidFill>
                <a:latin typeface="Arial Black"/>
              </a:rPr>
              <a:t>OPETTAJAN TYÖELÄMÄJAKSO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i-FI" sz="3200" spc="-1" strike="noStrike">
                <a:solidFill>
                  <a:srgbClr val="ffffff"/>
                </a:solidFill>
                <a:latin typeface="Arial"/>
              </a:rPr>
              <a:t>Susan Sundström – Varj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fi-FI" sz="3200" spc="-1" strike="noStrike">
                <a:solidFill>
                  <a:srgbClr val="ffffff"/>
                </a:solidFill>
                <a:latin typeface="Arial"/>
              </a:rPr>
              <a:t>Hyvinkään nuorisopalvel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fi-FI" sz="3200" spc="-1" strike="noStrike">
                <a:solidFill>
                  <a:srgbClr val="ffffff"/>
                </a:solidFill>
                <a:latin typeface="Arial"/>
              </a:rPr>
              <a:t>7.2.-18.2.20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800" spc="-1" strike="noStrike">
                <a:solidFill>
                  <a:srgbClr val="ffffb7"/>
                </a:solidFill>
                <a:latin typeface="Arial Black"/>
              </a:rPr>
              <a:t>Kun nuorisotyö </a:t>
            </a:r>
            <a:r>
              <a:rPr b="1" lang="fi-FI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800" spc="-1" strike="noStrike">
                <a:solidFill>
                  <a:srgbClr val="ffffb7"/>
                </a:solidFill>
                <a:latin typeface="Arial Black"/>
              </a:rPr>
              <a:t>on ajan tasalla, </a:t>
            </a:r>
            <a:r>
              <a:rPr b="1" lang="fi-FI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800" spc="-1" strike="noStrike">
                <a:solidFill>
                  <a:srgbClr val="ffffb7"/>
                </a:solidFill>
                <a:latin typeface="Arial Black"/>
              </a:rPr>
              <a:t>se on jo ajastaan </a:t>
            </a:r>
            <a:r>
              <a:rPr b="1" lang="fi-FI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800" spc="-1" strike="noStrike">
                <a:solidFill>
                  <a:srgbClr val="ffffb7"/>
                </a:solidFill>
                <a:latin typeface="Arial Black"/>
              </a:rPr>
              <a:t>jäljessä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Lukujärjestys/Sus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826920" y="1916280"/>
          <a:ext cx="8007480" cy="4190760"/>
        </p:xfrm>
        <a:graphic>
          <a:graphicData uri="http://schemas.openxmlformats.org/drawingml/2006/table">
            <a:tbl>
              <a:tblPr/>
              <a:tblGrid>
                <a:gridCol w="1602000"/>
                <a:gridCol w="1601640"/>
                <a:gridCol w="1600200"/>
                <a:gridCol w="1602000"/>
                <a:gridCol w="1601640"/>
              </a:tblGrid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-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nsiivine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stensuojelu/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S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-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lmakulma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staaja-koulutus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-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v- nuorisotyö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 – 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- verkkolevyn suunnittel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 – 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ari, Nuta facebookiss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 – 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uuma +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ikuttajatapaamin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usulass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-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lmakulma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ysymyks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 – 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orisopalveluiden ohjaajapalaver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 – 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nhempainilta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oret ja nett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 – 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bbo päiysty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Keskeiset tavoitteet      </a:t>
            </a: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jaksolle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Verkkonuorisotyö l. verkossa tehtävä nuorisoty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- Facebook -&gt; esimerkk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- Habbo Hotel -&gt; esimerkk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- Neta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- De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Nuorten tieto –ja neuvontapalvel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- Pulmakulma (Hgin seutukunta) -&gt; </a:t>
            </a:r>
            <a:r>
              <a:rPr b="0" lang="fi-FI" sz="2000" spc="-1" strike="noStrike">
                <a:solidFill>
                  <a:srgbClr val="ffffff"/>
                </a:solidFill>
                <a:latin typeface="Arial"/>
              </a:rPr>
              <a:t>esimerkk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- esim. Kompassi, Yesbox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Keskeiset tavoitteet </a:t>
            </a: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jaksolle 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Kv- työ Hyvinkään nuorisopalveluis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- Youth in Action (Nuorten Eurooppa, EV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Monikulttuurinen talotyö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- Yhdessä yhdenvertai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Hyödy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Arial"/>
              </a:rPr>
              <a:t>Aito työelämäyhte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Arial"/>
              </a:rPr>
              <a:t>Todellisia yhteistyötarpeita (mamu – kerho, Vappu-aatto, katupäivystys, kv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Arial"/>
              </a:rPr>
              <a:t>Mahdollisuus teoriaopetuksen työvaltaistamis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Arial"/>
              </a:rPr>
              <a:t>Ammattiosaamisen päivitys (lakien toteuttaminen käytännössä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Hyödyt jatkuu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Arial"/>
              </a:rPr>
              <a:t>Työyhteisön tarpeiden tunnistaminen -&gt; millaisia opiskelijoita Hyvinkäälle kannattaa lähettä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Arial"/>
              </a:rPr>
              <a:t>Yhteistyön tuloksena tällä hetkellä 2 Keudan nuva-opiskelijaa on työllistynyt Hyvinkään nuorisopalveluih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fi-FI" sz="4400" spc="-1" strike="noStrike">
                <a:solidFill>
                  <a:srgbClr val="ffffb7"/>
                </a:solidFill>
                <a:latin typeface="Arial Black"/>
              </a:rPr>
              <a:t>Haastee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Lyhyt ajanjakso - &gt; ei mahdollista todellista työntekoa, ainoastaan tutustumisen ja perehtymisen (jos rehellisiä olla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Lomakemäärä kohtuuton ajanjaksoon näh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(hakemus, työajanseuranta, palaute, raportti, esittel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Irrottautuminen omista töistä mahdotonta, joihinkin asioihin oli pakko reagoida -&gt; kahden työn tekemi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Ta:lle iso työ näin lyhyelle jaksol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0:53:25Z</dcterms:created>
  <dc:creator>nuoriso</dc:creator>
  <dc:description/>
  <dc:language>en-US</dc:language>
  <cp:lastModifiedBy>Susan Sundström-Varjonen</cp:lastModifiedBy>
  <dcterms:modified xsi:type="dcterms:W3CDTF">2011-03-16T08:26:47Z</dcterms:modified>
  <cp:revision>8</cp:revision>
  <dc:subject/>
  <dc:title> OPETTAJAN TYÖELÄMÄJAKSO</dc:title>
</cp:coreProperties>
</file>